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9780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84400" y="698040"/>
            <a:ext cx="46512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97800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7E2C-4B4F-45B4-AD95-CAC98051C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6B63-C979-41B0-BED6-6F7987AE8CA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EAEF-58E6-47E4-8950-14A5EAFE1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96D0-331D-4B2E-98FD-8285055D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7C10-C5DF-43E5-9C76-631D7B4D2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EA7D-156C-45C8-AB75-A896DF279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0EC4-BB09-4091-9FF8-4E056696C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AFC8-69CB-47DD-A453-B11533D2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E853-CB3A-47FD-9A16-FA3EC620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3B73-2A8D-4673-AF7A-9A5B93E6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72BB-7BB5-4106-8551-77CFF27E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7D72-7F0C-43B8-ABC2-20AAA5E5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999B-DDFD-4572-8587-DA715B6A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709A-E4F5-434D-8989-464B6479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E740-2352-4F06-AC6A-65E2A7F7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1071-2F45-48EC-8934-78FD1991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441F-73B8-47C6-AF71-C4881215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F454-B948-4CA6-98BF-9259C841E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474A-A02F-4B60-85F4-BE5E7EE5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9260-788E-442D-8C7B-9924C680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E8B6-2343-4ED3-86A4-B51DB73D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6CA9-D75F-4D9D-B251-E9788391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06AA-8F74-4D72-94C3-52B1D478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FAAD-2715-47FF-9514-0FD96EF9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6DA9-5247-4DA4-A1FA-C6961ED2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A1B3-596A-4E5F-9CD9-3C3DDBE7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5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222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22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23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24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25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26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27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28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29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30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31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32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33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34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35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36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37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38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39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40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41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42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43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44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45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46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47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48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49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50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51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52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53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54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55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56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57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58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59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60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61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62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63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64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65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66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67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68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69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70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71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72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73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74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75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76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77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78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79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80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81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82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83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84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85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86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87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88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89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90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91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92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93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94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95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96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97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98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99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200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201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202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203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204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205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206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207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208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209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210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211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212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213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214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215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216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217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218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219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24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6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7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1E86-CF4D-4AC4-A439-48BC9769D983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325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217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32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224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225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226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227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228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229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230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231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232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233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234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235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236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237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238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239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240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241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242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243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244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245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246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247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248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249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250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251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252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253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254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255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256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257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258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259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260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261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262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263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264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265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266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267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268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269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270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271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272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273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274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275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276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277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278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279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280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281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282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283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284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285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286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287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288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289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290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291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292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293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294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295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296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297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298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299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300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301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302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303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304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305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306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307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308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309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310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311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312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313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314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315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316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317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318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319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320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321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220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21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BB39-3A2C-44C2-A70A-AE6DD66E72C8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rainyquote.com/quotes/quotes/h/henryford106096.html" TargetMode="External"/><Relationship Id="rId2" Type="http://schemas.openxmlformats.org/officeDocument/2006/relationships/hyperlink" Target="http://www.brainyquote.com/quotes/quotes/s/stevejobs126246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37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elco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2590920" y="4952880"/>
            <a:ext cx="6400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Jack Williams, Direct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ivision of National System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304920" y="380880"/>
            <a:ext cx="1600200" cy="1600200"/>
          </a:xfrm>
          <a:prstGeom prst="rect">
            <a:avLst/>
          </a:prstGeom>
          <a:solidFill>
            <a:srgbClr val="9f9d4f"/>
          </a:solidFill>
          <a:ln w="0">
            <a:noFill/>
          </a:ln>
          <a:effectLst>
            <a:outerShdw dist="222200" dir="8939309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CA 3004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Tea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Enjo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Nursing Home MDS – June 1998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ome Health OASIS – August 1999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patient Rehab Facility PAI – January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wing Bed MDS – July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ong Term Care Hospital CDS – October 201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958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otal Assessments (through 04/25/12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DS 2.0/3.0 and SwBed – ~220,0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ASIS –  ~163,5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RF-PAI – ~4,7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verage Monthly Assessments Add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DS 2.0/3.0 and SwBed – ~1,6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ASIS – ~1,1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RF-PAI – ~38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A 3004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easu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ublic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ssessment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ealthcare Acquired Infections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duc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eam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ffice of Clinical Standards and Qua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 for Medica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 for Medicaid and CHIP Servi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s for Disease Control and Prevention – CD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You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njoy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Harbor Plac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aryland Science Center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Baltimore Aquariu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Baltimore Maritime Museu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Good Eats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www.baltimore.or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2" marL="10638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spir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lity means doing it right when no one is looking. </a:t>
            </a:r>
            <a:br>
              <a:rPr sz="3200"/>
            </a:br>
            <a:r>
              <a:rPr b="0" lang="en-US" sz="3200" spc="-1" strike="noStrike" u="sng">
                <a:solidFill>
                  <a:srgbClr val="990000"/>
                </a:solidFill>
                <a:uFillTx/>
                <a:latin typeface="Times New Roman"/>
                <a:hlinkClick r:id="rId1"/>
              </a:rPr>
              <a:t>Henry For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e a yardstick of quality. Some people aren't used to an environment where excellence is expected. </a:t>
            </a:r>
            <a:br>
              <a:rPr sz="3200"/>
            </a:br>
            <a:r>
              <a:rPr b="0" lang="en-US" sz="3200" spc="-1" strike="noStrike" u="sng">
                <a:solidFill>
                  <a:srgbClr val="990000"/>
                </a:solidFill>
                <a:uFillTx/>
                <a:latin typeface="Times New Roman"/>
                <a:hlinkClick r:id="rId2"/>
              </a:rPr>
              <a:t>Steve Job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5:18:08Z</dcterms:created>
  <dc:creator>IFMC Employee</dc:creator>
  <dc:description/>
  <dc:language>en-US</dc:language>
  <cp:lastModifiedBy>Jennifer Parrish</cp:lastModifiedBy>
  <dcterms:modified xsi:type="dcterms:W3CDTF">2012-05-11T11:47:03Z</dcterms:modified>
  <cp:revision>65</cp:revision>
  <dc:subject/>
  <dc:title>QIES Year in Review -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55215944</vt:r8>
  </property>
  <property fmtid="{D5CDD505-2E9C-101B-9397-08002B2CF9AE}" pid="3" name="_AuthorEmail">
    <vt:lpwstr>Caroline.Gallaher@cms.hhs.gov</vt:lpwstr>
  </property>
  <property fmtid="{D5CDD505-2E9C-101B-9397-08002B2CF9AE}" pid="4" name="_AuthorEmailDisplayName">
    <vt:lpwstr>Gallaher, Caroline D. (CMS/OCSQ)</vt:lpwstr>
  </property>
  <property fmtid="{D5CDD505-2E9C-101B-9397-08002B2CF9AE}" pid="5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6" name="_NewReviewCycle">
    <vt:lpwstr/>
  </property>
</Properties>
</file>